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48521"/>
        <c:axId val="23470082"/>
      </c:barChart>
      <c:catAx>
        <c:axId val="38348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70082"/>
        <c:crosses val="autoZero"/>
        <c:auto val="1"/>
        <c:lblAlgn val="ctr"/>
        <c:lblOffset val="100"/>
        <c:noMultiLvlLbl val="0"/>
      </c:catAx>
      <c:valAx>
        <c:axId val="23470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48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3A0-86C5-4815-A460-7ACF5F26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0BC-5921-4B62-A8BC-CE697E3A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01D-2DAC-4120-8CC3-2EE758A6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F75-889C-4082-8EA1-DB06EE95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CB4-9C5A-41D6-9EA9-69DFB48F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30C-B0D8-4D86-95AE-6C7DE26C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7EE-43AB-458A-8CA1-208B1201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04A-FCBB-4DD2-964B-62728BD8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88B-3493-4A00-9256-2BF2D170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166-41FA-4D5B-B841-CDAB180C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BF3-9863-4F16-8C88-C6250358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BEC-DCD1-4639-B614-323F7B2E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A2502-5959-4BC7-8CAC-59B6303069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