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97450"/>
        <c:axId val="97759818"/>
      </c:barChart>
      <c:catAx>
        <c:axId val="34097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9818"/>
        <c:crosses val="autoZero"/>
        <c:auto val="1"/>
        <c:lblAlgn val="ctr"/>
        <c:lblOffset val="100"/>
        <c:noMultiLvlLbl val="0"/>
      </c:catAx>
      <c:valAx>
        <c:axId val="97759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97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7FF-4573-4002-B6F5-F5132660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7FE-500F-45BD-AC68-593522C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E99-1067-4B53-8BE8-5AD3E9C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46A-BA9F-48DF-A479-876FD4D3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90F-173C-409A-BB0C-978D3A3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746-111C-49E6-BA48-0099FE6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321-27BD-4E49-A9FC-BFD86809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1BF-B9EA-40D0-A764-3F69A3F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BA0-51AA-4565-B7C7-AEC5949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699-2F27-4C4F-80D8-DA0EBA74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A2D-2290-4514-ACD5-6439C25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078-9854-48C5-B008-0887046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26708-0848-41B0-AEC5-591D5DBA6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