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39395"/>
        <c:axId val="69256776"/>
      </c:barChart>
      <c:catAx>
        <c:axId val="794393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56776"/>
        <c:crosses val="autoZero"/>
        <c:auto val="1"/>
        <c:lblAlgn val="ctr"/>
        <c:lblOffset val="100"/>
        <c:noMultiLvlLbl val="0"/>
      </c:catAx>
      <c:valAx>
        <c:axId val="69256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393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7F6-FC58-4B1D-96E5-E482391E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8FD-4BD7-40CF-A01E-C33E9BC6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C76-012B-4C73-B834-0769891A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1F7-4B34-444B-9DB4-54F28767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2E8-D949-41C2-8CB0-CF613BBE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612-F880-45D0-90ED-B8BF24D6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155-D884-495C-9FC3-22A68A23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1B4-C2D0-4C09-909E-E889171C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69C-2ADB-42F9-8695-F2DDC765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FFA-8E3A-41AA-A7FD-6FE9470D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192-857E-443E-BF44-92C4EE18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CA9-8CEA-43FA-B081-CBEB71D2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A124B-3A76-4FAE-B8D9-CC73D6B22E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