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37995"/>
        <c:axId val="61514258"/>
      </c:barChart>
      <c:catAx>
        <c:axId val="19037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14258"/>
        <c:crosses val="autoZero"/>
        <c:auto val="1"/>
        <c:lblAlgn val="ctr"/>
        <c:lblOffset val="100"/>
        <c:noMultiLvlLbl val="0"/>
      </c:catAx>
      <c:valAx>
        <c:axId val="61514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37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70E-E437-4D35-89ED-202068C6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BC2-7DD4-47E5-AECB-9A471466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B10-7064-403C-8C20-2C2BEBB2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025-2BB0-4C39-9296-E8244E76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9A4-D356-49DA-9FA0-BD507D7C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5EC-2A74-4FB4-B0D1-E107CCDA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A59-D078-4EF8-A141-DEF2C64A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39E-E7CB-4A4E-8E1A-9A2A0FCE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852-2B80-4A30-B6E7-9839B496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ABE-E007-4C02-A3A7-791727D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E37-C904-4BEE-8CDD-F875F73D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8EB-3552-437F-9BA2-B4A366DA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7D159-C6A5-4601-B7C8-6726AD7DD8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