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06529"/>
        <c:axId val="71013663"/>
      </c:barChart>
      <c:catAx>
        <c:axId val="86006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13663"/>
        <c:crosses val="autoZero"/>
        <c:auto val="1"/>
        <c:lblAlgn val="ctr"/>
        <c:lblOffset val="100"/>
        <c:noMultiLvlLbl val="0"/>
      </c:catAx>
      <c:valAx>
        <c:axId val="71013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06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5A1-C43B-46EE-B508-C93AD2B6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F5A-6BB2-4622-A403-129656DC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B47-D35D-48F0-8B9B-3AAD8F8A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3EB-F9E9-4A8F-AE7B-73F21707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082-AEEA-4235-831F-55F39494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0E4-E816-4DB6-849E-2F511977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467-FD72-48AA-81E4-C3D68F96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664-0879-467C-8EEB-72EF0EBE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1D1-1E31-45E6-BEC5-CCA0EE20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2B2-E1D9-4A26-B0FA-1586E75F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ACF-C089-4D1C-BD20-2EFB787C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A10-0846-413F-B2E9-9BA27B8E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AFE94-F3F0-4908-BAA4-7B3F82D7A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