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69690"/>
        <c:axId val="42608163"/>
      </c:barChart>
      <c:catAx>
        <c:axId val="44869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08163"/>
        <c:crosses val="autoZero"/>
        <c:auto val="1"/>
        <c:lblAlgn val="ctr"/>
        <c:lblOffset val="100"/>
        <c:noMultiLvlLbl val="0"/>
      </c:catAx>
      <c:valAx>
        <c:axId val="42608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69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5EC-25E6-44C8-969D-3F8C3C2E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784-B754-4496-B631-EBE45FE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1E7-D158-4B5A-8129-EB28D7EE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E59-5841-499E-B5C4-5B36870F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055-4462-4BFE-922D-A3B88B37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F85-156A-4518-B87F-99A98F3E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A5B-79B6-4FDD-BF3A-2D4AC614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60D-C31F-4AEA-8D12-795D739C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507-A21C-4465-BA38-2A3D0FC6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65A-4014-4CF4-B0AF-C5943BB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375-3F5B-44AD-8F3D-25D54D6D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BC3-B6A0-4B10-9EF0-B126B50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14A5F-D0A7-4029-BAB5-0883D0050D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