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970261"/>
        <c:axId val="37948545"/>
      </c:barChart>
      <c:catAx>
        <c:axId val="619702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48545"/>
        <c:crosses val="autoZero"/>
        <c:auto val="1"/>
        <c:lblAlgn val="ctr"/>
        <c:lblOffset val="100"/>
        <c:noMultiLvlLbl val="0"/>
      </c:catAx>
      <c:valAx>
        <c:axId val="379485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9702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9749-FDA7-4965-AA96-9D8452D19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595F-75C3-4B99-8BC4-2BB12382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3E01-33D6-4981-B83A-965E04F7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6D36-CF85-4CC7-9E2C-15A66775E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741A-978E-45B4-AD59-7C63D46B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EAE5-7E8E-4289-85C5-916A1296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A8BE-378F-4E4D-91EC-6A92C414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8EFC-BB30-4E2C-993C-89B1BCC7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FB99-CA16-4BBD-9D8B-F53923E4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2712-C62E-404A-B8C1-BA34230E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813A-E481-49B3-9ABA-84C79AE7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3FA6-D2DC-4A7A-A288-E2557BF8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1B2D68-FB9D-4BFE-9956-672A7514F0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